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69A5C-D803-4E9E-9EB9-599B0D08E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0F3D0-E20F-437E-AD17-5B610051C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2D6AD-083D-46B2-8C5C-A6B3170EF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3996B-167B-4F3A-932F-0BA863931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49F57-B3F4-49EE-A1E0-AD0D3E873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5ED62-8D2C-4A51-8C3C-4C4A493B7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FEF48-87D0-45E9-BFD0-23DC4A408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5B8CF-4324-46F5-94CE-36AE6F917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5BB72-85B7-4F0B-942A-135E9A061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44E6C-4C18-4F7A-8F70-7E4B168E5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175FA-94DD-4703-A8A5-6A87B410B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26C4B-9C6B-464D-A32C-5935AFE98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BC33E-82A5-4B6A-8914-168448E2D8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6121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Book Antiqua"/>
              </a:rPr>
              <a:t>Mes Vaca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39640" y="1268280"/>
            <a:ext cx="7632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24000" y="1268280"/>
            <a:ext cx="864072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CSE Coursework Planning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o write an account of a holiday (150-250 word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o use (at least) 3 tenses (Perfect, Present, Future) (+ Imperfect/Conditional?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o give reasons and opin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492360" y="189000"/>
            <a:ext cx="2374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708360" y="47772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 Pla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79280" y="1341360"/>
            <a:ext cx="2448000" cy="936720"/>
          </a:xfrm>
          <a:prstGeom prst="hexagon">
            <a:avLst>
              <a:gd name="adj" fmla="val 65334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2339640" y="981000"/>
            <a:ext cx="1152360" cy="647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1630440"/>
            <a:ext cx="237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Quand es-tu all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é(e)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79280" y="2854440"/>
            <a:ext cx="1152720" cy="1150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610920" y="2278080"/>
            <a:ext cx="144360" cy="647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95280" y="321300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ù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476360" y="2854440"/>
            <a:ext cx="1222560" cy="1150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979640" y="2278080"/>
            <a:ext cx="216000" cy="647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63640" y="3068640"/>
            <a:ext cx="7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vec qui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916360" y="1341360"/>
            <a:ext cx="2447640" cy="936720"/>
          </a:xfrm>
          <a:prstGeom prst="hexagon">
            <a:avLst>
              <a:gd name="adj" fmla="val 65325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140360" y="1197000"/>
            <a:ext cx="0" cy="21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03640" y="1484280"/>
            <a:ext cx="19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mment était le voyag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580000" y="1341360"/>
            <a:ext cx="2448000" cy="936720"/>
          </a:xfrm>
          <a:prstGeom prst="hexagon">
            <a:avLst>
              <a:gd name="adj" fmla="val 65334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771640" y="2852640"/>
            <a:ext cx="1224000" cy="1152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3419280" y="2276640"/>
            <a:ext cx="144360" cy="720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211640" y="2852640"/>
            <a:ext cx="1150920" cy="1152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45080" y="2276640"/>
            <a:ext cx="142920" cy="720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916360" y="3068640"/>
            <a:ext cx="936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oyen de 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356000" y="2997360"/>
            <a:ext cx="8636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Qu’est-ce que tu as fait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203640" y="4508640"/>
            <a:ext cx="1873080" cy="1296720"/>
          </a:xfrm>
          <a:prstGeom prst="foldedCorner">
            <a:avLst>
              <a:gd name="adj" fmla="val 125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19640" y="4005360"/>
            <a:ext cx="215640" cy="647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500720" y="4005360"/>
            <a:ext cx="287280" cy="647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348000" y="501336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rot="20866200">
            <a:off x="3405600" y="4783320"/>
            <a:ext cx="1800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Freestyle Script"/>
              </a:rPr>
              <a:t>Vos opin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867280" y="692280"/>
            <a:ext cx="936720" cy="720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724360" y="1557360"/>
            <a:ext cx="22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ù est-tu resté(e)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580000" y="2852640"/>
            <a:ext cx="1225440" cy="1152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6156000" y="2276640"/>
            <a:ext cx="144360" cy="647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80000" y="321300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o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020000" y="2852640"/>
            <a:ext cx="1297080" cy="1152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08720" y="2276640"/>
            <a:ext cx="287640" cy="647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020000" y="321300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867280" y="4437000"/>
            <a:ext cx="2089440" cy="1297080"/>
          </a:xfrm>
          <a:prstGeom prst="foldedCorner">
            <a:avLst>
              <a:gd name="adj" fmla="val 125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300720" y="4005360"/>
            <a:ext cx="216000" cy="57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7235640" y="4005360"/>
            <a:ext cx="431640" cy="57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rot="20866200">
            <a:off x="6140880" y="4638960"/>
            <a:ext cx="1800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Freestyle Script"/>
              </a:rPr>
              <a:t>Vos opin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3059280" y="187200"/>
            <a:ext cx="2447640" cy="936720"/>
          </a:xfrm>
          <a:prstGeom prst="hexagon">
            <a:avLst>
              <a:gd name="adj" fmla="val 65325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203640" y="476280"/>
            <a:ext cx="237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Quand es-tu all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é(e)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059280" y="1700280"/>
            <a:ext cx="1152360" cy="1150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490560" y="1123920"/>
            <a:ext cx="144360" cy="647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74920" y="205884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ù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6000" y="1700280"/>
            <a:ext cx="1222560" cy="1150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859280" y="1123920"/>
            <a:ext cx="216000" cy="647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643280" y="1914480"/>
            <a:ext cx="7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vec qui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324000" y="2492280"/>
            <a:ext cx="1511280" cy="15112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rcRect l="0" t="0" r="52282" b="27764"/>
          <a:stretch/>
        </p:blipFill>
        <p:spPr>
          <a:xfrm>
            <a:off x="2124000" y="3068640"/>
            <a:ext cx="1295640" cy="14400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826920" y="476280"/>
            <a:ext cx="1760760" cy="160164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7245360" y="333360"/>
            <a:ext cx="1508040" cy="15112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6156360" y="2133720"/>
            <a:ext cx="2425680" cy="15573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6"/>
          <a:stretch/>
        </p:blipFill>
        <p:spPr>
          <a:xfrm>
            <a:off x="4140360" y="3284640"/>
            <a:ext cx="1711080" cy="11412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 txBox="1"/>
          <p:nvPr/>
        </p:nvSpPr>
        <p:spPr>
          <a:xfrm>
            <a:off x="971640" y="4941720"/>
            <a:ext cx="863640" cy="100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2s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2340000" y="5013360"/>
            <a:ext cx="115092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10j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995640" y="4941720"/>
            <a:ext cx="863640" cy="100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1s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6516720" y="5013360"/>
            <a:ext cx="2448000" cy="144000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77080" y="5229360"/>
            <a:ext cx="16556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5724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en/à</a:t>
            </a:r>
            <a:endParaRPr b="0" lang="en-US" sz="1800" spc="1" strike="noStrike">
              <a:ln w="5724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205080" y="190440"/>
            <a:ext cx="2448000" cy="936720"/>
          </a:xfrm>
          <a:prstGeom prst="hexagon">
            <a:avLst>
              <a:gd name="adj" fmla="val 65334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492360" y="333360"/>
            <a:ext cx="19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mment était le voyag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060720" y="1701720"/>
            <a:ext cx="1224000" cy="1152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3708000" y="1125360"/>
            <a:ext cx="144360" cy="721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00720" y="1701720"/>
            <a:ext cx="1150920" cy="1152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933800" y="1125360"/>
            <a:ext cx="142920" cy="721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205080" y="1917720"/>
            <a:ext cx="936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oyen de 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645080" y="1846440"/>
            <a:ext cx="8636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Qu’est-ce que tu as fait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468360" y="1052640"/>
            <a:ext cx="2044800" cy="10429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7596360" y="549360"/>
            <a:ext cx="733320" cy="142884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6659640" y="2276640"/>
            <a:ext cx="1619280" cy="16189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4"/>
          <a:stretch/>
        </p:blipFill>
        <p:spPr>
          <a:xfrm>
            <a:off x="539640" y="2492280"/>
            <a:ext cx="1752840" cy="14860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5"/>
          <a:stretch/>
        </p:blipFill>
        <p:spPr>
          <a:xfrm>
            <a:off x="684360" y="4581360"/>
            <a:ext cx="2232000" cy="149076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6"/>
          <a:stretch/>
        </p:blipFill>
        <p:spPr>
          <a:xfrm>
            <a:off x="5796000" y="4365720"/>
            <a:ext cx="2058840" cy="15444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7"/>
          <a:stretch/>
        </p:blipFill>
        <p:spPr>
          <a:xfrm>
            <a:off x="3348000" y="3645000"/>
            <a:ext cx="2147760" cy="196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0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3132000" y="189000"/>
            <a:ext cx="2448000" cy="936360"/>
          </a:xfrm>
          <a:prstGeom prst="hexagon">
            <a:avLst>
              <a:gd name="adj" fmla="val 65359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276720" y="40464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ù est-tu resté(e)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132000" y="1700280"/>
            <a:ext cx="1225800" cy="1152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3708000" y="1123920"/>
            <a:ext cx="144360" cy="647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132000" y="206064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o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572000" y="1700280"/>
            <a:ext cx="1297080" cy="1152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861080" y="1123920"/>
            <a:ext cx="287280" cy="647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572000" y="206064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79280" y="765000"/>
            <a:ext cx="1600200" cy="16192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324000" y="2637000"/>
            <a:ext cx="1876320" cy="135864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7020000" y="26028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4"/>
          <a:stretch/>
        </p:blipFill>
        <p:spPr>
          <a:xfrm>
            <a:off x="6877080" y="2421000"/>
            <a:ext cx="1633680" cy="163332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 txBox="1"/>
          <p:nvPr/>
        </p:nvSpPr>
        <p:spPr>
          <a:xfrm>
            <a:off x="2340000" y="4292640"/>
            <a:ext cx="468000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76320">
                  <a:solidFill>
                    <a:srgbClr val="ff0000"/>
                  </a:solidFill>
                  <a:miter/>
                </a:ln>
                <a:solidFill>
                  <a:srgbClr val="33cc33"/>
                </a:solidFill>
                <a:latin typeface="Wingdings"/>
              </a:rPr>
              <a:t>û ü</a:t>
            </a:r>
            <a:endParaRPr b="0" lang="en-US" sz="4400" spc="1" strike="noStrike">
              <a:ln w="76320">
                <a:solidFill>
                  <a:srgbClr val="ff0000"/>
                </a:solidFill>
                <a:miter/>
              </a:ln>
              <a:solidFill>
                <a:srgbClr val="33cc33"/>
              </a:solidFill>
              <a:latin typeface="Wingdings"/>
              <a:ea typeface="Wingding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0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8T15:07:41Z</dcterms:created>
  <dc:creator>Administrator</dc:creator>
  <dc:description/>
  <dc:language>en-US</dc:language>
  <cp:lastModifiedBy>Administrator</cp:lastModifiedBy>
  <dcterms:modified xsi:type="dcterms:W3CDTF">2008-09-28T18:39:38Z</dcterms:modified>
  <cp:revision>3</cp:revision>
  <dc:subject/>
  <dc:title>Mes Vacances</dc:title>
</cp:coreProperties>
</file>